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3FDF-8A8C-4E2A-9073-F0FC4D4B968D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CDA0-6139-485A-AD35-A9309EADE6EE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dieser Folie in das Layout „leere Folie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oberen Teil der Folie den Text „Flintstones“ als WordArt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unteren Teil das Bild Hole_Flintstones.jpg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9B8B-0D07-47D4-9F1B-30C8DB402383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auf „Zweispaltiger Text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pieren Sie den Text „...und der Rüsselstaubsauger“ in die zweite Sp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dnen Sie in der ersten Spalte Bild und Text so an, daß das Bild oben und der Text darunter ste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Rüsselstaubsauger“ soll beim Erscheinen ro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AA1A-B330-43AC-9DA1-288685722A27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ändern sie Form und Ausrichtung von Textfeld und Bild so, daß sich der Text links und das Bild rechts befind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6EBD-1C52-42A7-8553-4F7A9DF9BEC6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Barney und Fred im Auto“ soll automatisch nach 2 Sekunden erschei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s Eingangseffekt wählen Sie „Text“ und „von links oben“, als Geräusch wählen Sie „Motor“ oder „quietschende Reif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87A-A3D5-4C35-9061-BA3387B4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50E-4A63-42DA-9F53-01441E73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3F5-FDAD-443C-A581-161CEFA3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62B-3014-456A-A06D-89920575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2B85-42E0-4E53-BF37-7BFDF33B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941F-79DD-4B7E-AD81-6B5FAAEC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5124-5BA6-457D-B037-7C5DC1A3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F289-B4C8-4B4F-A195-E7806A48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A548-C354-4B04-B589-62617B49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BC3F-7CCF-4361-80B0-1455E93A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CBB6-04A1-499B-A20D-18958C1A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863-3339-4D7B-8844-F691BFD2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1A4C-DBBC-45D9-9C20-DE0CBA3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0785-72A8-4351-AA47-F7EFE83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449B-9632-49DF-8808-749D6998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145E-9C80-493D-A27F-18A4D0B0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BB8C-62BB-4317-82DC-432956F8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FD7-C0C0-4AF8-872E-24D0A4F9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31B-79C7-4824-B821-F61A98E9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429-9981-4DF2-9C31-028A557A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0F8-AE72-4EDE-8E1D-3270BB9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A6C-141C-42CC-824F-A955BC79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DE3-D7A4-4721-96EC-6425987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347-24BF-483B-9EDF-3489DA9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B20F-DBEF-4B31-BCD1-18EA57C7F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B5D7-3D5C-4504-B0BC-269FADC08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amB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 Herbst 1963 finden sie auf ihrer Türschwelle den bärenstarken Bamm-Bamm mit der Ke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D:\Kurs 4015\Präsentationen\Flintstones\Bambam_und_Dino.jpg"/>
          <p:cNvPicPr/>
          <p:nvPr/>
        </p:nvPicPr>
        <p:blipFill>
          <a:blip r:embed="rId1"/>
          <a:stretch/>
        </p:blipFill>
        <p:spPr>
          <a:xfrm>
            <a:off x="6248520" y="2438280"/>
            <a:ext cx="2286000" cy="2960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Kurs 4015\Präsentationen\Flintstones\Barney_mit_Bambam.jpg"/>
          <p:cNvPicPr/>
          <p:nvPr/>
        </p:nvPicPr>
        <p:blipFill>
          <a:blip r:embed="rId2"/>
          <a:stretch/>
        </p:blipFill>
        <p:spPr>
          <a:xfrm>
            <a:off x="2514600" y="3429000"/>
            <a:ext cx="228600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icht zu vergesse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L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und der Rüsselstaubs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D:\Kurs 4015\Präsentationen\Flintstones\Russelstaubsauger.jpg"/>
          <p:cNvPicPr/>
          <p:nvPr/>
        </p:nvPicPr>
        <p:blipFill>
          <a:blip r:embed="rId1"/>
          <a:stretch/>
        </p:blipFill>
        <p:spPr>
          <a:xfrm>
            <a:off x="5410080" y="4191120"/>
            <a:ext cx="2286000" cy="149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:\Kurs 4015\Präsentationen\Flintstones\Pebbles_mit_Lowen.jpg"/>
          <p:cNvPicPr/>
          <p:nvPr/>
        </p:nvPicPr>
        <p:blipFill>
          <a:blip r:embed="rId2"/>
          <a:stretch/>
        </p:blipFill>
        <p:spPr>
          <a:xfrm>
            <a:off x="1371600" y="3352680"/>
            <a:ext cx="2286000" cy="26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r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de Männ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red und Wi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ebbles und D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tty und Bar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m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ebbles und Bam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en und Rüsselstaubs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intstones-S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lintstones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meet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're a modern stone age fam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own of bedroc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're a page right out of hi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's ride with the family down the str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courtesy of Fred's two f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're with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yabb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'll have a great ol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Kurs 4015\Präsentationen\Flintstones\Dino_singend.jpg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r ungestüme Fred ist der klassische Verlierer, der sich nie gegen seine Frau Wilma durchsetzen kan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D:\Kurs 4015\Präsentationen\Flintstones\Fred_mit_Matschbirne.jpg"/>
          <p:cNvPicPr/>
          <p:nvPr/>
        </p:nvPicPr>
        <p:blipFill>
          <a:blip r:embed="rId1"/>
          <a:stretch/>
        </p:blipFill>
        <p:spPr>
          <a:xfrm>
            <a:off x="3200400" y="2590920"/>
            <a:ext cx="28908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a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während sein bester Freund Barney Geröllheimer (Barney Rubble), der auf den ersten Blick etwas minderbemittelt wirkt, immer wieder als Glückspilz erwe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D:\Kurs 4015\Präsentationen\Flintstones\Barney_3.jpg"/>
          <p:cNvPicPr/>
          <p:nvPr/>
        </p:nvPicPr>
        <p:blipFill>
          <a:blip r:embed="rId1"/>
          <a:stretch/>
        </p:blipFill>
        <p:spPr>
          <a:xfrm>
            <a:off x="1143000" y="2895480"/>
            <a:ext cx="2286000" cy="24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eide Männ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4220640"/>
            <a:ext cx="3810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..arbeiten im Steinbruch von Mr.Schiefer (Mr.GeorgeSl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D:\Kurs 4015\Präsentationen\Flintstones\Barney_und_Fred_im_Auto.jpg"/>
          <p:cNvPicPr/>
          <p:nvPr/>
        </p:nvPicPr>
        <p:blipFill>
          <a:blip r:embed="rId1"/>
          <a:stretch/>
        </p:blipFill>
        <p:spPr>
          <a:xfrm>
            <a:off x="5638680" y="4114800"/>
            <a:ext cx="228600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red und Wi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6000" y="4869000"/>
            <a:ext cx="4114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vollständigt wird die Familie Feuerstei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D:\Kurs 4015\Präsentationen\Flintstones\Fred_and_Wilma_kussend.jpg"/>
          <p:cNvPicPr/>
          <p:nvPr/>
        </p:nvPicPr>
        <p:blipFill>
          <a:blip r:embed="rId1"/>
          <a:stretch/>
        </p:blipFill>
        <p:spPr>
          <a:xfrm>
            <a:off x="1066680" y="2133720"/>
            <a:ext cx="2759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ebbles und D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urch die Tochter Pebbles, die im Februar 1963 das Licht der Urzeitwelt erblick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..und den Haushund D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D:\Kurs 4015\Präsentationen\Flintstones\Dino_und_Pebbles_im_Rahmen.jpg"/>
          <p:cNvPicPr/>
          <p:nvPr/>
        </p:nvPicPr>
        <p:blipFill>
          <a:blip r:embed="rId1"/>
          <a:stretch/>
        </p:blipFill>
        <p:spPr>
          <a:xfrm>
            <a:off x="1371600" y="2666880"/>
            <a:ext cx="29034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etty und Ba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95120" y="5257800"/>
            <a:ext cx="5867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ch Barney und seine Frau Betty bleiben nicht lange kinderl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Betty_and_Barney_1"/>
          <p:cNvPicPr/>
          <p:nvPr/>
        </p:nvPicPr>
        <p:blipFill>
          <a:blip r:embed="rId1"/>
          <a:stretch/>
        </p:blipFill>
        <p:spPr>
          <a:xfrm>
            <a:off x="1295280" y="2514600"/>
            <a:ext cx="2286000" cy="202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21:53:55Z</dcterms:created>
  <dc:creator>Oliver Mochmann</dc:creator>
  <dc:description/>
  <dc:language>en-US</dc:language>
  <cp:lastModifiedBy>Oliver Mochmann</cp:lastModifiedBy>
  <dcterms:modified xsi:type="dcterms:W3CDTF">2009-11-22T22:44:55Z</dcterms:modified>
  <cp:revision>13</cp:revision>
  <dc:subject/>
  <dc:title>PowerPoint-Präsentation</dc:title>
</cp:coreProperties>
</file>